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FC0D6-6618-42EE-944F-FC1A918AC1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50910-A266-4FF4-B369-8B7BC3055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45AA1-DE94-446E-BCE7-AF17902BE0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140-E6A3-4A4F-9D29-901854D2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330-1B3D-4147-AFB9-CF4D76F8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0EB-F2DD-4244-9B67-6CB4386D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075-8D6B-46ED-B169-14EF50EC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371D-8642-441D-B50F-10D27E2D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FAC9-3C25-4B0A-8EDC-9547B4F4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75B6-77CA-4D5A-988E-BB01B892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2FAB-EE81-414E-BBAA-CC85A48C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94E6-CFEA-4518-9696-F0DEFA2A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E495-CA95-4F37-A69C-EDEA3EF2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344D-7546-4489-83F7-86618D0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0CF-20EB-489D-A39C-1B6925D7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97A7-EB69-4539-AF47-BB9718C3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2BD2-78D6-4440-A8AE-E28C410D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D0F7-ED54-4F96-8667-85851D7F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3315-225B-4540-B425-5939AE00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B908-2776-4EE1-9132-E32CE182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FA4-389B-4C2C-9D70-3ABAD326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BA4-FAF7-4227-AD84-2E1C2489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355-C0E0-4085-A374-8F243D84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0CB-15E6-4AE9-8484-35AC7464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6B5-79F2-4CF6-A2ED-3E121B37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D63-4C2A-466E-A766-A006D89C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B70-90DD-43C8-84CF-496A9308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74A9D-5B7D-4858-A866-06CD9A42A1D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09411-44CF-485B-920E-314021D7F5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5746D-A678-4D66-BB01-1FB2E2DA0F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100" spc="-1" strike="noStrike">
                <a:solidFill>
                  <a:srgbClr val="ffff00"/>
                </a:solidFill>
                <a:latin typeface="Calibri"/>
              </a:rPr>
              <a:t>Four lobes of the cerebral cortex</a:t>
            </a:r>
            <a:endParaRPr b="0" lang="en-US" sz="6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6" descr="250px-Lobes_of_the_brain_NL.svg.png"/>
          <p:cNvPicPr/>
          <p:nvPr/>
        </p:nvPicPr>
        <p:blipFill>
          <a:blip r:embed="rId1"/>
          <a:stretch/>
        </p:blipFill>
        <p:spPr>
          <a:xfrm>
            <a:off x="1523880" y="2470320"/>
            <a:ext cx="5016600" cy="3571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152280" y="2239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RONTAL LO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6324480" y="3327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CCIPITAL LO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787320" y="5856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MPORAL LO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6083280" y="247032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ARIETAL LO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5" name="Straight Arrow Connector 12"/>
          <p:cNvCxnSpPr/>
          <p:nvPr/>
        </p:nvCxnSpPr>
        <p:spPr>
          <a:xfrm>
            <a:off x="1549440" y="2815920"/>
            <a:ext cx="1829520" cy="7419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6" name="Straight Arrow Connector 13"/>
          <p:cNvCxnSpPr/>
          <p:nvPr/>
        </p:nvCxnSpPr>
        <p:spPr>
          <a:xfrm flipV="1">
            <a:off x="2774880" y="4984560"/>
            <a:ext cx="1207080" cy="815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7" name="Straight Arrow Connector 14"/>
          <p:cNvCxnSpPr/>
          <p:nvPr/>
        </p:nvCxnSpPr>
        <p:spPr>
          <a:xfrm flipH="1">
            <a:off x="4615560" y="2931120"/>
            <a:ext cx="1467720" cy="648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8" name="Straight Arrow Connector 17"/>
          <p:cNvCxnSpPr/>
          <p:nvPr/>
        </p:nvCxnSpPr>
        <p:spPr>
          <a:xfrm flipH="1">
            <a:off x="5944680" y="3789360"/>
            <a:ext cx="850320" cy="5342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Broca’s aphasia (expressive aphasia)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– damage to area – a language disorder characterised by an impaired ability to produce spee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understand others, can read, but likely to have difficulty with speaking (motor) and poor grammar and pronunciation. Know what they want to say but can’t get the words ou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: -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oor grammar,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slow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aboured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peech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inly verbs and nouns, no conjunc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(May have difficulty interpreting the meaning of words if the usual order of words is changed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.g. 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“here….head…..operation…here…speech…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none…. talking…..what….illness….”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ARIET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Located at the top and centre of the brain between the frontal and occipital lobes of </a:t>
            </a:r>
            <a:r>
              <a:rPr b="0" lang="en-AU" sz="3200" spc="-1" strike="noStrike">
                <a:solidFill>
                  <a:srgbClr val="ffff00"/>
                </a:solidFill>
                <a:latin typeface="Calibri"/>
              </a:rPr>
              <a:t>EACH 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cerebral hemisp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olved in functions such a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se of tou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tection of move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cation of objects in the surrounding enviro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imary somatosensory corte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12319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Contains the </a:t>
            </a:r>
            <a:r>
              <a:rPr b="1" lang="en-AU" sz="2800" spc="-1" strike="noStrike" u="sng">
                <a:solidFill>
                  <a:srgbClr val="ffff00"/>
                </a:solidFill>
                <a:uFillTx/>
                <a:latin typeface="Calibri"/>
              </a:rPr>
              <a:t>primary somatosensory cortex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uns laterally (across) the top of the brain at the front of the lo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primary somatosensory cortex is characterised b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Contra-lateral organisatio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–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left somatosensory cortex receives sensory information from the right side of the body and vice vers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Topographically  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how they are mapped out) - The size of the somatosensory cortex devoted to body parts reflects the sensitvity of the pa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Inverse representation</a:t>
            </a: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f body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–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feet at top and face at botto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ontent Placeholder 3" descr="Picture 4.png"/>
          <p:cNvPicPr/>
          <p:nvPr/>
        </p:nvPicPr>
        <p:blipFill>
          <a:blip r:embed="rId1"/>
          <a:srcRect l="-43682" t="0" r="-43682" b="0"/>
          <a:stretch/>
        </p:blipFill>
        <p:spPr>
          <a:xfrm>
            <a:off x="-1252440" y="144360"/>
            <a:ext cx="11775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Homunculus of the sensory corte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33720" y="1417680"/>
            <a:ext cx="45878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Comparison of sensory &amp; motor homuncul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Parietal lobes cont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ssociation area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se our body in space (using information from visual and auditory cortex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termining where objects are in the environment (using visual and spatial reasoning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amage to the parietal lobe association area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result in ‘Neglect Syndrome’ i.e. ignoring the left side of the ‘world’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result in spatial disorientation e.g. unable to find the way h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OCCIPIT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at the back of the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ains the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primary visual cortex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eives visual information from photoreceptors (rods and cones ) in the back of the ey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ssociation Are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lows us to form visual perceptions, think visually and remember visual th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31440" indent="-2426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ight occur if there is damage to the occipital lob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Content Placeholder 3" descr="nrn1630-f4.jpg"/>
          <p:cNvPicPr/>
          <p:nvPr/>
        </p:nvPicPr>
        <p:blipFill>
          <a:blip r:embed="rId1"/>
          <a:srcRect l="-65008" t="0" r="-65008" b="0"/>
          <a:stretch/>
        </p:blipFill>
        <p:spPr>
          <a:xfrm>
            <a:off x="-2133720" y="0"/>
            <a:ext cx="1247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EMPOR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cated in the lower, central area of the bra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ed in auditory perception, memory, visual perception &amp; </a:t>
            </a:r>
            <a:r>
              <a:rPr b="0" lang="en-AU" sz="3000" spc="-1" strike="noStrike">
                <a:solidFill>
                  <a:srgbClr val="ffffff"/>
                </a:solidFill>
                <a:latin typeface="Calibri"/>
              </a:rPr>
              <a:t>recognising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ac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tains the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primary auditory cortex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ceives and processes auditory informa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as different locations for different aspects of sound (pitch, frequency etc)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ssociation Area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volved in memory &amp; linking emo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volved in facial recogni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ortical area (lobe) is associat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ifferent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uctures and fun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med after the bone in the skull they lie benea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lobe contain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sory areas and/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tor ar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ociation ar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rnicke’s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cated in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eft temporal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be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ar primary auditory cortex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volved in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mprehension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f speech,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interpreting sounds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ocating appropriate words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o express meanin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Wernike’s aphasia (receptive aphasia)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– no trouble with a word’s pronunciation or grammar but the words chosen may be inappropriate and the meaning may be expressed in a round about way . Also, difficulty with understanding the meaning of the spoken word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auses fluent, meaningless strings of word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unds like normal speech, but makes no sens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.g.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“I was over the other one, and then after they had been in the department, I was in this one”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sides Wernicke’s aphasia, what other problems might arise as a result of damage to the temporal lob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FRONT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alibri"/>
              </a:rPr>
              <a:t>Largest lobe, located in the upper forward section of </a:t>
            </a:r>
            <a:r>
              <a:rPr b="0" lang="en-AU" sz="2500" spc="-1" strike="noStrike">
                <a:solidFill>
                  <a:srgbClr val="ffff00"/>
                </a:solidFill>
                <a:latin typeface="Calibri"/>
              </a:rPr>
              <a:t>EACH </a:t>
            </a:r>
            <a:r>
              <a:rPr b="0" lang="en-AU" sz="2500" spc="-1" strike="noStrike">
                <a:solidFill>
                  <a:srgbClr val="ffffff"/>
                </a:solidFill>
                <a:latin typeface="Calibri"/>
              </a:rPr>
              <a:t>cerebral hemispher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alibri"/>
              </a:rPr>
              <a:t>Contains the </a:t>
            </a:r>
            <a:r>
              <a:rPr b="1" lang="en-AU" sz="2500" spc="-1" strike="noStrike" u="sng">
                <a:solidFill>
                  <a:srgbClr val="ffff00"/>
                </a:solidFill>
                <a:uFillTx/>
                <a:latin typeface="Calibri"/>
              </a:rPr>
              <a:t>primary motor cortex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Runs laterally (across) the top of the brain at the rear of the lob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2500" spc="-1" strike="noStrike">
                <a:solidFill>
                  <a:srgbClr val="ffffff"/>
                </a:solidFill>
                <a:latin typeface="Calibri"/>
              </a:rPr>
              <a:t>primary motor cortex is characterised by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200" spc="-1" strike="noStrike">
                <a:solidFill>
                  <a:srgbClr val="ffff00"/>
                </a:solidFill>
                <a:latin typeface="Calibri"/>
              </a:rPr>
              <a:t>Contra-lateral organisation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 left motor cortex controls voluntary movements on the right side of the body and vice vers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200" spc="-1" strike="noStrike">
                <a:solidFill>
                  <a:srgbClr val="ffff00"/>
                </a:solidFill>
                <a:latin typeface="Calibri"/>
              </a:rPr>
              <a:t>Topographically  </a:t>
            </a: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(how they are mapped out) - The size of the motor cortex devoted to body parts reflects the dexterity of the par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200" spc="-1" strike="noStrike">
                <a:solidFill>
                  <a:srgbClr val="ffff00"/>
                </a:solidFill>
                <a:latin typeface="Calibri"/>
              </a:rPr>
              <a:t>Inverse representation</a:t>
            </a:r>
            <a:r>
              <a:rPr b="1" lang="en-A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of body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 feet at top and face at botto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imary motor cortex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Content Placeholder 3" descr="Picture 3.png"/>
          <p:cNvPicPr/>
          <p:nvPr/>
        </p:nvPicPr>
        <p:blipFill>
          <a:blip r:embed="rId1"/>
          <a:srcRect l="-38736" t="0" r="-38736" b="0"/>
          <a:stretch/>
        </p:blipFill>
        <p:spPr>
          <a:xfrm>
            <a:off x="0" y="1143000"/>
            <a:ext cx="9477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Homonculus of the motor corte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Frontal lobe continue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ociation area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er mental functioning such as reasoning, planning, judging and using initia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involved in personality and emotional behavi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G Phineas Gage – change of person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xample - Phineas G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ilway construction supervisor, 1848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ter an accidental explosion, and iron rod (3.5cm diameter, 1m long &amp; 6kg) was shot through his skull, damaging his frontal lob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 personality, social behaviour and temperament changed after the incide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hineas lived for a further 12 ye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7" descr="phineas"/>
          <p:cNvPicPr/>
          <p:nvPr/>
        </p:nvPicPr>
        <p:blipFill>
          <a:blip r:embed="rId1"/>
          <a:stretch/>
        </p:blipFill>
        <p:spPr>
          <a:xfrm>
            <a:off x="4952880" y="1676520"/>
            <a:ext cx="370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Phineas Gage Skul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54440" y="274680"/>
            <a:ext cx="457668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roca’s Are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600200"/>
            <a:ext cx="91440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in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ft frontal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b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ar face, tongue, jaw and throat of motor cortex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olved in production of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ear fluent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&amp;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rticulat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e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22:45:22Z</dcterms:created>
  <dc:creator>DE&amp;T user</dc:creator>
  <dc:description/>
  <dc:language>en-US</dc:language>
  <cp:lastModifiedBy>DR</cp:lastModifiedBy>
  <dcterms:modified xsi:type="dcterms:W3CDTF">2009-02-02T09:06:17Z</dcterms:modified>
  <cp:revision>15</cp:revision>
  <dc:subject/>
  <dc:title>Four lobes of the cerebral cortex</dc:title>
</cp:coreProperties>
</file>